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9.png" ContentType="image/png"/>
  <Override PartName="/ppt/media/image26.png" ContentType="image/png"/>
  <Override PartName="/ppt/media/image25.png" ContentType="image/png"/>
  <Override PartName="/ppt/media/image2.png" ContentType="image/png"/>
  <Override PartName="/ppt/media/image27.png" ContentType="image/png"/>
  <Override PartName="/ppt/media/image4.png" ContentType="image/png"/>
  <Override PartName="/ppt/media/image23.png" ContentType="image/png"/>
  <Override PartName="/ppt/media/image13.jpeg" ContentType="image/jpeg"/>
  <Override PartName="/ppt/media/image28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A4014-9550-468D-8F51-C5C407F7DF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y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26640-86D3-4F53-89AA-D99DD3BF0E5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19AE7-16BC-4E93-B167-0FECC30969F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th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3EA7C-D961-4222-B48A-173B351BDB1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y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67BDD-32C0-408E-AB45-182275D6FF3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y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A0028-E6C0-4496-A29E-A4421E0739F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g Ki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00EAB-C8D8-4EEC-A3DF-D81548D51BB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y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528F8-F4E8-4AE2-9F21-B8221A2D5C4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y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CCA93-7834-4096-91C1-6163967E6B7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r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92909-BEA9-4D40-98F3-00D83CB567C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r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E36CC-66D1-4A0E-935B-CCB33C10D3C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o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2F600-4F5D-4469-B1D5-B0AF5F695B1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y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6CD8C-D035-402A-BEE1-9E278F8666E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o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C3FD0-E40E-42DA-BFD6-5833D683476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r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D4B36-2527-4CC8-993C-F7A46D30EF7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BB88-5162-47F0-B4EC-323FA781F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5D09-2F50-4B6B-AF03-D48687701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C667-22CC-4E61-9E4E-CBAD705C5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8B22-128D-4BA2-8C4E-3E72D4AA1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11F29-0B40-4795-8512-B5B1931ED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69A1C-1096-44A7-B858-E6FD76C37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B645C-5D5A-4822-BCDD-1DC343D4B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0CF73-B0A9-46C8-AF84-09A3D598C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2CDCF-28DD-43F1-88D8-DAF3195CF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9B968-68B2-49E7-9BBB-C7F641850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7E1FC-6C3B-4CA4-B8D7-F450E5E02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BD21-1739-4FEB-A5DF-7019E2641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C54FF-DEFC-4F29-B3B9-06B61821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191E6-A076-4EAF-9C66-2EF1E395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EC72D-6F5C-4EB0-B0C1-2882DE838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F2B1C-A4C6-4C25-9D6D-30B7D9DFF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7C67D-F1FD-4267-B94F-9CA7CBA53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43E3E-F97C-488A-88A2-6E71395DB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F7F67-35B1-4256-A9A4-E2C60BEF6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79052-8943-4ACA-9B4C-F46B83615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627A0-4BB8-4A6C-9852-0F0903326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5B4F8-56F8-4AA7-9CB1-C28256AB9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B3FB-3E05-4F80-9E73-2D9F46688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98ED1-A01A-4CC3-BE0B-ED4390CA3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E8A9E-CDDD-4343-8BD0-367365B70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F3E1F-C092-4EC3-861D-67FBF7C0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F6B1E-99EC-4AC3-84C8-9D5E8733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D3408-2E5F-498E-85C9-320A0C51B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AF043-9ACD-4CD2-BC45-9E1DF4BF3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2E8AE-F7D7-49D9-9C8C-A6C2242CC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CBB72-E31B-4AB1-8B56-6D08C68D9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E6155-B2EE-4946-853E-4FD87D13D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FFB23-0C72-489B-9AA9-1EF37E447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1DDB-9143-4E32-B500-A544CB031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D5ECE-1D16-4D2B-BE38-43E4992A8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597F4-3A30-449A-90B2-3913AE61B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43A51-81A4-47D9-B2E4-3B71D5D40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902B1-F8FC-412F-9A9A-9CB5CFB9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00A68-9FF3-4F88-B5CC-CE25AA83E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0BA00-2820-44FA-845C-1D748BB6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0E395-7907-449B-8B92-49F0AEB02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DEE53-0EAF-4118-967A-7FE37ECCB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A7C22-E4BA-4C34-9340-2E3C348CF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F685E-4EA8-4498-A6BA-ED5030E59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D3EB-8DA6-4C28-994D-5D536D927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A6E0F2-380D-4F69-A1FD-C266B5212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6CAD2-18CE-4883-B67E-AAC8AEBD3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9DA9ED-8DA3-4F51-9862-01BAFDD0A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829A8E-E045-41CD-A425-159C61F62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B02EE-79A5-487F-988A-CAFD2BA99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BFB36-F3EB-4581-B388-2C18D8CAB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D57CE-F20B-4ABB-BE56-1CF80D58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EA842B-3A2A-47D5-98FE-010BD265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055C48-D00A-47DD-988A-454F58391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E16AF-23C6-43A5-8B86-0AA1A9C7F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13EB-84D0-4CAF-8BE3-190E28ABD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D7A86F-8142-48BE-A697-1C92EC71D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337E1D-3B93-4007-8736-74BF5A33F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76CFB2-18A5-481B-9E7F-C2D11A2F4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4E462D-4E9F-4F98-8AAA-21F1B894C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AB6FA4-CEF9-4EB0-8174-46CE43D99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E5EB57-81BC-4FA7-A252-06DDECB93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34AF6D-98B5-4AF4-92E9-B1C8EEE70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08A91F-87AC-4A7C-97A0-D766C6F9F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A47850-DC95-4493-A500-748F2585D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21A72A-9186-40B3-82DF-9F865ACF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F269-FCA9-4E32-A05E-F720B337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BAC28F-FD51-4219-81EC-A71D1FC33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6EB4C2-7C12-41E9-8372-9E7A10EFC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57D77D-126D-42C9-A9C2-2688EEFDD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2A2E0B-3AC6-420B-9F92-4807C4875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33F3AF-04AF-42D9-9615-85AB24035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E84ADB-6260-4701-9A35-077FE72E9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50AEDC-8E96-4D7B-A874-F7F9B3B4E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BFA60E-A90F-431B-A419-93A2934A1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6CB33A-7479-48B0-B593-F355661A2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5F3FF7-1274-48D9-B5B8-29766EC8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F9FD-9E4F-46FC-862B-443B4FF6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5C3F61-7981-46D6-9E3E-A11469AF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5B1523-4FCB-4BA6-994A-DAB2BD283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88AC32-9CDD-4315-AC74-38E0C8C3B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9D1438-C361-4993-94EE-11B827F8A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5211AD-8D11-4734-9258-1453D4DBC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1AAE-0169-407D-AE14-CE372D0C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E794D-42A0-4113-AC50-33930AF28AE4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148A0-EE84-48F2-A7B5-3F154EBF0832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1F741-DB68-461E-AAC4-2E4FAA83F2E9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2B90E-3049-4CB8-B35D-E622721034F0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D3C5D-23DE-40EE-A649-A113E284C07C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F4EEB-ED30-406C-925D-C28E4DB3DD40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1AD69-3839-4B18-9997-2E9058F3D7A8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Title 1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326440" cy="1481400"/>
          </a:xfrm>
          <a:prstGeom prst="rect">
            <a:avLst/>
          </a:prstGeom>
          <a:ln w="0">
            <a:noFill/>
          </a:ln>
        </p:spPr>
      </p:pic>
      <p:pic>
        <p:nvPicPr>
          <p:cNvPr id="309" name="Subtitle 2" descr=""/>
          <p:cNvPicPr/>
          <p:nvPr/>
        </p:nvPicPr>
        <p:blipFill>
          <a:blip r:embed="rId2"/>
          <a:stretch/>
        </p:blipFill>
        <p:spPr>
          <a:xfrm>
            <a:off x="396720" y="2170080"/>
            <a:ext cx="8313840" cy="38592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http://www.worldofstock.com/slides/BTE1563.jpg"/>
          <p:cNvPicPr/>
          <p:nvPr/>
        </p:nvPicPr>
        <p:blipFill>
          <a:blip r:embed="rId3"/>
          <a:stretch/>
        </p:blipFill>
        <p:spPr>
          <a:xfrm>
            <a:off x="1066680" y="914400"/>
            <a:ext cx="47628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Title 1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2" descr="http://chipdesignmag.com/images/2010/February-March_2010/FEATURE1_FIG7.jpg"/>
          <p:cNvPicPr/>
          <p:nvPr/>
        </p:nvPicPr>
        <p:blipFill>
          <a:blip r:embed="rId2"/>
          <a:stretch/>
        </p:blipFill>
        <p:spPr>
          <a:xfrm>
            <a:off x="228600" y="1600200"/>
            <a:ext cx="4368960" cy="289548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 txBox="1"/>
          <p:nvPr/>
        </p:nvSpPr>
        <p:spPr>
          <a:xfrm>
            <a:off x="4572000" y="14940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29840" indent="-36720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Barrel Shif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29840" indent="-36720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imple design=small area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29840" indent="-36720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hifts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left up to 4 bit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29840" indent="-36720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laces 0’s in the lower bits after shift occurs = easier to implement arithmetic operation with the shifted result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29840" indent="-36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533520" y="1295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0840" indent="-35964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20840" indent="-35964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20840" indent="-35964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20840" indent="-35964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20840" indent="-35964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20840" indent="-35964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20840" indent="-35964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coder with passgate logic = uses fewer gat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Title 1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 txBox="1"/>
          <p:nvPr/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es two inverters in series connected back to the 8:1 mux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0" name="Picture 6" descr="Crystal"/>
          <p:cNvPicPr/>
          <p:nvPr/>
        </p:nvPicPr>
        <p:blipFill>
          <a:blip r:embed="rId2"/>
          <a:srcRect l="57779" t="10221" r="0" b="51459"/>
          <a:stretch/>
        </p:blipFill>
        <p:spPr>
          <a:xfrm>
            <a:off x="2133720" y="2819520"/>
            <a:ext cx="4800600" cy="3789360"/>
          </a:xfrm>
          <a:prstGeom prst="rect">
            <a:avLst/>
          </a:prstGeom>
          <a:ln w="0">
            <a:noFill/>
          </a:ln>
        </p:spPr>
      </p:pic>
      <p:sp>
        <p:nvSpPr>
          <p:cNvPr id="341" name="Straight Connector 7"/>
          <p:cNvSpPr/>
          <p:nvPr/>
        </p:nvSpPr>
        <p:spPr>
          <a:xfrm flipV="1">
            <a:off x="5181480" y="3048120"/>
            <a:ext cx="0" cy="2743200"/>
          </a:xfrm>
          <a:prstGeom prst="line">
            <a:avLst/>
          </a:prstGeom>
          <a:ln w="5724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Straight Connector 8"/>
          <p:cNvSpPr/>
          <p:nvPr/>
        </p:nvSpPr>
        <p:spPr>
          <a:xfrm>
            <a:off x="2590920" y="3048120"/>
            <a:ext cx="2590560" cy="0"/>
          </a:xfrm>
          <a:prstGeom prst="line">
            <a:avLst/>
          </a:prstGeom>
          <a:ln w="5724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Straight Connector 10"/>
          <p:cNvSpPr/>
          <p:nvPr/>
        </p:nvSpPr>
        <p:spPr>
          <a:xfrm>
            <a:off x="2590920" y="3048120"/>
            <a:ext cx="0" cy="685800"/>
          </a:xfrm>
          <a:prstGeom prst="line">
            <a:avLst/>
          </a:prstGeom>
          <a:ln w="5724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44" name="Straight Arrow Connector 13"/>
          <p:cNvCxnSpPr/>
          <p:nvPr/>
        </p:nvCxnSpPr>
        <p:spPr>
          <a:xfrm>
            <a:off x="2590920" y="3733920"/>
            <a:ext cx="838800" cy="2160"/>
          </a:xfrm>
          <a:prstGeom prst="straightConnector1">
            <a:avLst/>
          </a:prstGeom>
          <a:ln w="57240">
            <a:solidFill>
              <a:srgbClr val="ff248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 txBox="1"/>
          <p:nvPr/>
        </p:nvSpPr>
        <p:spPr>
          <a:xfrm>
            <a:off x="457200" y="1828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8 Bit Array Multipli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akes the 8 LSB of the inputs and returns a 16 bit resul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mplemented using And gates, Half-Adders, and Full-Add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Title 1" descr=""/>
          <p:cNvPicPr/>
          <p:nvPr/>
        </p:nvPicPr>
        <p:blipFill>
          <a:blip r:embed="rId1"/>
          <a:stretch/>
        </p:blipFill>
        <p:spPr>
          <a:xfrm>
            <a:off x="-6480" y="450720"/>
            <a:ext cx="1079640" cy="5956560"/>
          </a:xfrm>
          <a:prstGeom prst="rect">
            <a:avLst/>
          </a:prstGeom>
          <a:ln w="0">
            <a:noFill/>
          </a:ln>
        </p:spPr>
      </p:pic>
      <p:sp>
        <p:nvSpPr>
          <p:cNvPr id="34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0" name="Picture 5" descr=""/>
          <p:cNvPicPr/>
          <p:nvPr/>
        </p:nvPicPr>
        <p:blipFill>
          <a:blip r:embed="rId2"/>
          <a:stretch/>
        </p:blipFill>
        <p:spPr>
          <a:xfrm>
            <a:off x="1522440" y="6480"/>
            <a:ext cx="678348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Title 1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16b AN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16b O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16b PAS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Initially an AND gate with same input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witched to Tgate implementation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4" name=""/>
          <p:cNvGraphicFramePr/>
          <p:nvPr/>
        </p:nvGraphicFramePr>
        <p:xfrm>
          <a:off x="2590920" y="1828800"/>
          <a:ext cx="4495680" cy="3325680"/>
        </p:xfrm>
        <a:graphic>
          <a:graphicData uri="http://schemas.openxmlformats.org/drawingml/2006/table">
            <a:tbl>
              <a:tblPr/>
              <a:tblGrid>
                <a:gridCol w="1295280"/>
                <a:gridCol w="3200400"/>
              </a:tblGrid>
              <a:tr h="66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DS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</a:tr>
              <a:tr h="66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re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.69757e-2 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66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ela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8.33949 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66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nerg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.248221e-8 J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66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etric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.13250e-25 s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x m x J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Title 1" descr=""/>
          <p:cNvPicPr/>
          <p:nvPr/>
        </p:nvPicPr>
        <p:blipFill>
          <a:blip r:embed="rId1"/>
          <a:stretch/>
        </p:blipFill>
        <p:spPr>
          <a:xfrm>
            <a:off x="450720" y="-414360"/>
            <a:ext cx="8242560" cy="141444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2362320" y="533520"/>
            <a:ext cx="4495680" cy="45720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2" descr=""/>
          <p:cNvPicPr/>
          <p:nvPr/>
        </p:nvPicPr>
        <p:blipFill>
          <a:blip r:embed="rId3"/>
          <a:stretch/>
        </p:blipFill>
        <p:spPr>
          <a:xfrm>
            <a:off x="304920" y="685800"/>
            <a:ext cx="8572320" cy="60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racteristic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sign Techniqu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sign Practic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op level ALU connection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Operation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etric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Title 1" descr=""/>
          <p:cNvPicPr/>
          <p:nvPr/>
        </p:nvPicPr>
        <p:blipFill>
          <a:blip r:embed="rId1"/>
          <a:stretch/>
        </p:blipFill>
        <p:spPr>
          <a:xfrm>
            <a:off x="2736720" y="2432160"/>
            <a:ext cx="376092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457200" y="1882800"/>
            <a:ext cx="8229600" cy="4572000"/>
          </a:xfrm>
          <a:prstGeom prst="rect">
            <a:avLst/>
          </a:prstGeom>
          <a:ln w="0">
            <a:noFill/>
          </a:ln>
        </p:spPr>
      </p:pic>
      <p:sp>
        <p:nvSpPr>
          <p:cNvPr id="36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4" name="Picture 4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8534520" cy="6553440"/>
          </a:xfrm>
          <a:prstGeom prst="rect">
            <a:avLst/>
          </a:prstGeom>
          <a:ln w="0">
            <a:noFill/>
          </a:ln>
        </p:spPr>
      </p:pic>
      <p:sp>
        <p:nvSpPr>
          <p:cNvPr id="365" name="TextBox 6"/>
          <p:cNvSpPr/>
          <p:nvPr/>
        </p:nvSpPr>
        <p:spPr>
          <a:xfrm>
            <a:off x="457200" y="31240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nput before  regis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Box 7"/>
          <p:cNvSpPr/>
          <p:nvPr/>
        </p:nvSpPr>
        <p:spPr>
          <a:xfrm>
            <a:off x="457200" y="45720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nput to all Oper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racteristic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sign Techniqu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sign Practic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op level ALU connection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Operation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etric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ummary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Question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456840" y="1882800"/>
            <a:ext cx="5257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mbedded Digital Signal Processor for PICo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MI 0.5 um technolog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Ocea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Buffered the inputs through 2 series inverter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Drove the output through 4 parallel inverter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5" name="Picture 4" descr="http://www.clemson.edu/ces/departments/ece/images/dream_jobs/circuit.jpg"/>
          <p:cNvPicPr/>
          <p:nvPr/>
        </p:nvPicPr>
        <p:blipFill>
          <a:blip r:embed="rId2"/>
          <a:stretch/>
        </p:blipFill>
        <p:spPr>
          <a:xfrm>
            <a:off x="6019920" y="2743200"/>
            <a:ext cx="2628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456840" y="1371600"/>
            <a:ext cx="4800600" cy="50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romises between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Area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Delay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Power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sign decisions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Focused on delays in add/subtract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8" name="Picture 2" descr="http://img.archiexpo.com/images_ae/photo-g/design-hall-mirror-94175.jpg"/>
          <p:cNvPicPr/>
          <p:nvPr/>
        </p:nvPicPr>
        <p:blipFill>
          <a:blip r:embed="rId2"/>
          <a:srcRect l="25891" t="0" r="0" b="0"/>
          <a:stretch/>
        </p:blipFill>
        <p:spPr>
          <a:xfrm>
            <a:off x="5486400" y="1676520"/>
            <a:ext cx="32716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45720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onent Heirarch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Reusing component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ubcircuits librar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Clearly tested to ensure accurate result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Clean to prevent bugs or error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Flexible for future design modification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Title 1" descr=""/>
          <p:cNvPicPr/>
          <p:nvPr/>
        </p:nvPicPr>
        <p:blipFill>
          <a:blip r:embed="rId1"/>
          <a:stretch/>
        </p:blipFill>
        <p:spPr>
          <a:xfrm>
            <a:off x="476280" y="268200"/>
            <a:ext cx="8186760" cy="14018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6" descr="Crystal"/>
          <p:cNvPicPr/>
          <p:nvPr/>
        </p:nvPicPr>
        <p:blipFill>
          <a:blip r:embed="rId2"/>
          <a:stretch/>
        </p:blipFill>
        <p:spPr>
          <a:xfrm>
            <a:off x="1943280" y="1882800"/>
            <a:ext cx="5256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16b Ad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16b Sub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16b AN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16b O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hift Left Logica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16b Pas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8b Multipl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5" name="Picture 2" descr="http://www.ece.ucsb.edu/~parhami/images_folder/digits_arith.jpg"/>
          <p:cNvPicPr/>
          <p:nvPr/>
        </p:nvPicPr>
        <p:blipFill>
          <a:blip r:embed="rId2"/>
          <a:stretch/>
        </p:blipFill>
        <p:spPr>
          <a:xfrm>
            <a:off x="4495680" y="1371600"/>
            <a:ext cx="4162680" cy="50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Title 1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sp>
        <p:nvSpPr>
          <p:cNvPr id="32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Picture 3" descr=""/>
          <p:cNvPicPr/>
          <p:nvPr/>
        </p:nvPicPr>
        <p:blipFill>
          <a:blip r:embed="rId2"/>
          <a:srcRect l="5319" t="9238" r="3329" b="9238"/>
          <a:stretch/>
        </p:blipFill>
        <p:spPr>
          <a:xfrm>
            <a:off x="2286000" y="1219320"/>
            <a:ext cx="4886280" cy="2514600"/>
          </a:xfrm>
          <a:prstGeom prst="rect">
            <a:avLst/>
          </a:prstGeom>
          <a:ln w="0">
            <a:noFill/>
          </a:ln>
        </p:spPr>
      </p:pic>
      <p:sp>
        <p:nvSpPr>
          <p:cNvPr id="329" name="TextBox 4"/>
          <p:cNvSpPr/>
          <p:nvPr/>
        </p:nvSpPr>
        <p:spPr>
          <a:xfrm>
            <a:off x="3200400" y="37339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bit Mirror Ad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Picture 6" descr="http://img.search.com/thumb/5/5d/4-bit_ripple_carry_adder.svg/500px-4-bit_ripple_carry_adder.svg.png"/>
          <p:cNvPicPr/>
          <p:nvPr/>
        </p:nvPicPr>
        <p:blipFill>
          <a:blip r:embed="rId3"/>
          <a:stretch/>
        </p:blipFill>
        <p:spPr>
          <a:xfrm>
            <a:off x="2362320" y="4191120"/>
            <a:ext cx="4762440" cy="1904760"/>
          </a:xfrm>
          <a:prstGeom prst="rect">
            <a:avLst/>
          </a:prstGeom>
          <a:ln w="0">
            <a:noFill/>
          </a:ln>
        </p:spPr>
      </p:pic>
      <p:sp>
        <p:nvSpPr>
          <p:cNvPr id="331" name="TextBox 6"/>
          <p:cNvSpPr/>
          <p:nvPr/>
        </p:nvSpPr>
        <p:spPr>
          <a:xfrm>
            <a:off x="3429000" y="60199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ipple Carry Ad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Title 1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mplemented using the same 1 bit full adders that we used with the 16b adder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akes 2s complement of input B and adds to input A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Overflow detecto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9T03:28:10Z</dcterms:created>
  <dc:creator>Student</dc:creator>
  <dc:description/>
  <dc:language>en-US</dc:language>
  <cp:lastModifiedBy>Manoj</cp:lastModifiedBy>
  <dcterms:modified xsi:type="dcterms:W3CDTF">2010-05-03T06:24:05Z</dcterms:modified>
  <cp:revision>72</cp:revision>
  <dc:subject/>
  <dc:title>Crystal</dc:title>
</cp:coreProperties>
</file>